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4DA7-AF05-40F2-9F84-40347DCC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1F1-40CD-4399-86D8-DDB13C62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B17D-86E9-41C6-93F9-5C7A426B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BB2-C52E-4F80-BDFB-AC1D941D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AC37-B52E-443C-8CB0-7BF24CB1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C8AC-407D-4CF9-826D-D39EA099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5B6C-3199-4150-A66B-FC3E28F2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D464-61E1-478D-A9D1-8D993527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C9E7-1A8B-48E9-8347-9BD271B0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B75E-C2B4-4416-A3A1-A22ED941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1273-7C58-4C50-9EF3-B3AD3386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7B4-EDD5-4619-BCF8-82C47C24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6C43-F758-4CF9-96D0-4FA62E6A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3AE7-F023-4C84-B631-512C65B4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C970-7735-49EC-A4D8-0693ED6A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7DA8-3FCB-43BE-AC89-D79DB56C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CB0F-89CD-44A6-BE7E-F6327559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3213-AF1D-40F5-813A-365FE1A2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1916-B722-4660-B9DE-8E781926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6DA-0DD9-46EC-9F26-7417B6D4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DA9A-5528-4C04-93A9-8132992D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45FF-CAB8-4B14-809E-56290ACC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F4A1-B586-4192-BFD3-C8DA6880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72D2-6153-4868-831C-97F6BC00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EE7B-E290-4E25-B8BE-6B4F8C7DBE3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7CF6-715A-42BE-8863-C10EB4F12E0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dicated to Community Servi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hool Year 2010-2011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iving of ones time and talent, by choice, to help others in the communit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 monetary compensation, grade, or academic cred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nting to help others and make a differ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3" descr="xmas drive.jpg"/>
          <p:cNvPicPr/>
          <p:nvPr/>
        </p:nvPicPr>
        <p:blipFill>
          <a:blip r:embed="rId2"/>
          <a:stretch/>
        </p:blipFill>
        <p:spPr>
          <a:xfrm>
            <a:off x="2514600" y="4114800"/>
            <a:ext cx="3505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lping oth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iving back to your commun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hool related benefi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right Futur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perintendant’s Diploma of Distin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lking in Whi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holarshi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wa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Picture 2" descr="C:\Documents and Settings\cmmillig\Local Settings\Temporary Internet Files\Content.IE5\C5UV4HYJ\MC900353686[1].wmf"/>
          <p:cNvPicPr/>
          <p:nvPr/>
        </p:nvPicPr>
        <p:blipFill>
          <a:blip r:embed="rId2"/>
          <a:stretch/>
        </p:blipFill>
        <p:spPr>
          <a:xfrm>
            <a:off x="6324480" y="4114800"/>
            <a:ext cx="19465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lect a location that meets an identified community service with a public, non-profit agenc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agency should provide a safe, supervised environment and a volunteer job descrip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duties should be meaningful and provide a service to the commun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 and your parent/guardian are solely responsible for selecting a community service loc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school: Clubs, peer tutoring, school ev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urch youth progra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ity Librar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nior Cent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alth Fai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th Organiz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FM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Picture 2" descr="C:\Documents and Settings\cmmillig\Local Settings\Temporary Internet Files\Content.IE5\4XYBG1M7\MC900297577[1].wmf"/>
          <p:cNvPicPr/>
          <p:nvPr/>
        </p:nvPicPr>
        <p:blipFill>
          <a:blip r:embed="rId2"/>
          <a:stretch/>
        </p:blipFill>
        <p:spPr>
          <a:xfrm>
            <a:off x="5486400" y="3581280"/>
            <a:ext cx="25909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th Partnership agree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UST BE COMPLETED BEFORE YOU START YOUR HOURS!!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th Partnership Program Sign in Shee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th Partnership Program Student/Parent Guidelin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IPS tips for Student Volunteers bookl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3:39:57Z</dcterms:created>
  <dc:creator>cmmillig</dc:creator>
  <dc:description/>
  <dc:language>en-US</dc:language>
  <cp:lastModifiedBy>jkheifne</cp:lastModifiedBy>
  <dcterms:modified xsi:type="dcterms:W3CDTF">2010-07-29T14:35:06Z</dcterms:modified>
  <cp:revision>8</cp:revision>
  <dc:subject/>
  <dc:title>Medical Academy</dc:title>
</cp:coreProperties>
</file>